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316-D60F-4D5F-9108-B8850D7C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7997-E431-4A2F-9611-01E14940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C1A6-8FBF-43F8-B033-8B2043700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1F7B-42C3-470E-9B62-78BFCB31F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0070-0ED7-4E7C-9E7B-B745A6AEB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05D5-DB50-46C6-80B0-AF52C93E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2ECC-3848-484F-81CA-29F79FAF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61D4-22A5-4B9A-A1A8-DA524E21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E41-3C85-4B28-8F2E-7C1B846AB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3CFD-5ED3-4678-9F91-CA10233A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593B-A063-402C-A84F-8E2BE566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FBFD-8AE9-44FC-B255-6B6117FC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175E-84F5-4F01-ABC0-50B1AB94D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A26-7A97-4D8D-B029-50FB5ECC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5551-4D87-4A61-9983-BCE0880E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765-0527-463F-978F-43751F3F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F8B-4952-4CA6-839E-4168F393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D65-2556-4B0E-94C1-8DD1632C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B4B-8375-4937-ABEB-F2F48AF1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8FA-2BEE-4BA8-B60C-BB0BAC5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F82-13C4-4534-84E2-4A7E909C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E44-2B67-4266-8A7D-A580642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3A44-B3D5-4A16-A152-BF7263A6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CD8-B374-474A-9C5E-05D221A8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7ED2-2472-47E3-9B32-E3B86CF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C1E-FF90-4A89-8120-DC6BABD7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B47-9BB8-47F1-8EDB-5D011A9C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38B-108B-40D2-ADAE-30CF2DFC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alogies to Make 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ies can help us make inferences about things that are less familiar.  This is often the way we learn new inform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xample: Imagine you were trying to explain to a child why watering a plant too much is bad.  The child takes care of her dog everyday.  You might choose to use an analogy to the dog to explain the wa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f you feed the dog too much, the dog will get sic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Likewise, if you water the plant too much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95152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ference can help the child learn about taking care of plants from her existing knowledge about taking care of a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base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: your answ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hrows the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thrown/hit/ca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tart, score, fi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Judges play, 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the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oundaries of g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78" name="TextBox 5"/>
          <p:cNvSpPr/>
          <p:nvPr/>
        </p:nvSpPr>
        <p:spPr>
          <a:xfrm>
            <a:off x="5486400" y="2895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laternitehawks.com/images/baseball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baseball1.jpg"/>
          <p:cNvPicPr/>
          <p:nvPr/>
        </p:nvPicPr>
        <p:blipFill>
          <a:blip r:embed="rId1"/>
          <a:stretch/>
        </p:blipFill>
        <p:spPr>
          <a:xfrm>
            <a:off x="5486400" y="45720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baseb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hrows/Catches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thrown, 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unners head tow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5"/>
          <p:cNvSpPr/>
          <p:nvPr/>
        </p:nvSpPr>
        <p:spPr>
          <a:xfrm>
            <a:off x="5486400" y="289548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laternitehawks.com/images/baseball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baseball1.jpg"/>
          <p:cNvPicPr/>
          <p:nvPr/>
        </p:nvPicPr>
        <p:blipFill>
          <a:blip r:embed="rId1"/>
          <a:stretch/>
        </p:blipFill>
        <p:spPr>
          <a:xfrm>
            <a:off x="5486400" y="457200"/>
            <a:ext cx="365760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hoc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core, where the goalie def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ere the game is play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ef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the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88" name="TextBox 5"/>
          <p:cNvSpPr/>
          <p:nvPr/>
        </p:nvSpPr>
        <p:spPr>
          <a:xfrm>
            <a:off x="5486400" y="28954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ultimedia.detnews.com/pix/3d/b6/fa/8e/73/6f/20100220181054_06-MSU-Hockey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hockey.jpg"/>
          <p:cNvPicPr/>
          <p:nvPr/>
        </p:nvPicPr>
        <p:blipFill>
          <a:blip r:embed="rId1"/>
          <a:stretch/>
        </p:blipFill>
        <p:spPr>
          <a:xfrm>
            <a:off x="5243400" y="457200"/>
            <a:ext cx="3900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ting it all together…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733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each aspect of hock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657600"/>
          <a:ext cx="9144000" cy="2970360"/>
        </p:xfrm>
        <a:graphic>
          <a:graphicData uri="http://schemas.openxmlformats.org/drawingml/2006/table">
            <a:tbl>
              <a:tblPr/>
              <a:tblGrid>
                <a:gridCol w="2944800"/>
                <a:gridCol w="6199200"/>
              </a:tblGrid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yers move puck tow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es/Shoots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s 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05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s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93" name="TextBox 5"/>
          <p:cNvSpPr/>
          <p:nvPr/>
        </p:nvSpPr>
        <p:spPr>
          <a:xfrm>
            <a:off x="5486400" y="289548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ultimedia.detnews.com/pix/3d/b6/fa/8e/73/6f/20100220181054_06-MSU-Hockey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hockey.jpg"/>
          <p:cNvPicPr/>
          <p:nvPr/>
        </p:nvPicPr>
        <p:blipFill>
          <a:blip r:embed="rId1"/>
          <a:stretch/>
        </p:blipFill>
        <p:spPr>
          <a:xfrm>
            <a:off x="5243400" y="457200"/>
            <a:ext cx="3900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Baseball and Hockey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’s really no comparison…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baseball that correspond (or match) to features of hockey.  Identify the common role of each fea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2286000"/>
          <a:ext cx="8991360" cy="454176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, cau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 ball/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Scoring occurs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s th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ame occurs 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revents scoring; both stop play, both cat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ignment: Comparing Baseball and Hockey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’s really no comparison…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features of baseball that correspond (or match) to features of hockey.  Identify the common role of each featu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320" y="2286000"/>
          <a:ext cx="8991360" cy="405432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imed 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/throw ball/pu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se roles are well lined up.  What are the differences between some of the features of baseball and hocke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320" y="2286000"/>
          <a:ext cx="8991360" cy="402912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ces?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these roles are well lined up.  What are the differences between some of the features of baseball and hocke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320" y="2286000"/>
          <a:ext cx="8991360" cy="4040280"/>
        </p:xfrm>
        <a:graphic>
          <a:graphicData uri="http://schemas.openxmlformats.org/drawingml/2006/table">
            <a:tbl>
              <a:tblPr/>
              <a:tblGrid>
                <a:gridCol w="2997000"/>
                <a:gridCol w="2997360"/>
                <a:gridCol w="2997000"/>
              </a:tblGrid>
              <a:tr h="48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t shape, one slides on ice, other moves in 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fferent shape, one is held up the other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yers move toward home, puck moves toward 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706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83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er throws ball at beginning of play, Goalie shoots puck at end of p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we know that the PITCHER is the most important position on a winning baseball team, what can we infer about hocke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3809880"/>
          <a:ext cx="7620120" cy="2622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31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Base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Arial"/>
                        </a:rPr>
                        <a:t>Hoc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ad"/>
                          </a:solidFill>
                          <a:latin typeface="Arial"/>
                          <a:ea typeface="Cambria"/>
                        </a:rPr>
                        <a:t>Common R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et 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ckey st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Home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Aimed 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Ump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efe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Enforce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Ri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lace where game occ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  <a:tr h="534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itc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Goal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atch/throw ball/pu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7c7ff"/>
                    </a:solidFill>
                  </a:tcPr>
                </a:tc>
              </a:tr>
            </a:tbl>
          </a:graphicData>
        </a:graphic>
      </p:graphicFrame>
      <p:sp>
        <p:nvSpPr>
          <p:cNvPr id="110" name="Oval 5"/>
          <p:cNvSpPr/>
          <p:nvPr/>
        </p:nvSpPr>
        <p:spPr>
          <a:xfrm>
            <a:off x="762120" y="5715000"/>
            <a:ext cx="487656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 Orga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First, we would like you to complete a questionnai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o…find someone with a FOLDER. Get into groups of F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name on the inside cover of the folder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Student ID if you have it (bring it next time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ZE THE FOLDER NUMBER!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Begin the “Analogy Assessment” when we tell you to star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Define ana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nterpret basic analogies to identify the common roles of related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Provide an example of an inferences based on an ana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you seen a question like this befo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UMB : B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. ounce :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 splinter :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 water : bu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. twine : 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 cream : bu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"/>
          <p:cNvSpPr/>
          <p:nvPr/>
        </p:nvSpPr>
        <p:spPr>
          <a:xfrm>
            <a:off x="3048120" y="3124080"/>
            <a:ext cx="30477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nalogy is when you can line up two examples so that the same relations apply in each. An analogy lets you transfer information from one subject to another su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odyguard : Celebrity  ::  Force-field : Space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4808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is case, the bodyguar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ec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the celebrity in the same way that a force-fiel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tec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a space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Analogi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ogies can be visual, to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64832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80880" y="51814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 this case, the first object has a larger object in between two smaller objects. Therefore, the box on the left is the best analogy because it contains the same relationship between its objects as the “standar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o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2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instead of a rule, like the size and position of objects, there is a role that a particular object plays in a situ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ic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at role does the car play in the first picture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ich object plays the same role in the second picture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en two objects share the same role, we say that they are analogous.  Which two objects are analogous?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68" name="P 1" descr="MarkmanGentner1993.tiff"/>
          <p:cNvPicPr/>
          <p:nvPr/>
        </p:nvPicPr>
        <p:blipFill>
          <a:blip r:embed="rId1"/>
          <a:stretch/>
        </p:blipFill>
        <p:spPr>
          <a:xfrm>
            <a:off x="5410080" y="12193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Ro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2280" y="838080"/>
            <a:ext cx="5105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instead of a rule, like the size and position of objects, there is a role that a particular object plays in a situa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pic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at role does the car play in the first picture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ing pulled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ich object plays the same role in the second picture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boat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857160" indent="-457200">
              <a:lnSpc>
                <a:spcPct val="125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hen two objects share the same role, we say that they are analogous.  Which two objects are analogous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he car and the boat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71" name="P 1" descr="MarkmanGentner1993.tiff"/>
          <p:cNvPicPr/>
          <p:nvPr/>
        </p:nvPicPr>
        <p:blipFill>
          <a:blip r:embed="rId1"/>
          <a:stretch/>
        </p:blipFill>
        <p:spPr>
          <a:xfrm>
            <a:off x="5410080" y="1219320"/>
            <a:ext cx="3733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0:41:16Z</dcterms:created>
  <dc:creator>Julie Libarkin</dc:creator>
  <dc:description/>
  <dc:language>en-US</dc:language>
  <cp:lastModifiedBy>Nicole LaDue</cp:lastModifiedBy>
  <dcterms:modified xsi:type="dcterms:W3CDTF">2011-01-13T21:33:31Z</dcterms:modified>
  <cp:revision>317</cp:revision>
  <dc:subject/>
  <dc:title>PowerPoint Presentation</dc:title>
</cp:coreProperties>
</file>